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2E34-0EEE-4916-96BE-408A532A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A970-8C25-488F-80EF-113D6226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D9A8-391A-41C9-B207-F38DEC0B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6576-BD9F-4C77-8C53-471C93E4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A7D2-ABC0-456E-9E66-09CB43B0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19A5-D6DB-4154-ABA4-6605150D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4874-FC26-48CE-AAB9-0D4B613C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C9EC-43BF-41FB-B71C-C850089F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F23D-2160-47B7-8D9C-D54378D1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7F87-243A-4561-B859-83E53D69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6CDF-70F1-44D5-AB5E-F72AC591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BA40-7CE8-4E22-A23D-A2D4B09C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F4D5-05E4-46DB-8D29-D4D673FF9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Evil%20laugh.wav" TargetMode="External"/><Relationship Id="rId3" Type="http://schemas.microsoft.com/office/2007/relationships/media" Target="file:///tmp/home/.config/libreoffice/4/user/gallery/Evil%20laugh.wav" TargetMode="External"/><Relationship Id="rId4" Type="http://schemas.openxmlformats.org/officeDocument/2006/relationships/image" Target="../media/image2.png"/><Relationship Id="rId5" Type="http://schemas.openxmlformats.org/officeDocument/2006/relationships/audio" Target="file:///tmp/home/.config/libreoffice/4/user/gallery/Goo.wav" TargetMode="External"/><Relationship Id="rId6" Type="http://schemas.microsoft.com/office/2007/relationships/media" Target="file:///tmp/home/.config/libreoffice/4/user/gallery/Goo.wav" TargetMode="External"/><Relationship Id="rId7" Type="http://schemas.openxmlformats.org/officeDocument/2006/relationships/image" Target="../media/image2.png"/><Relationship Id="rId8" Type="http://schemas.openxmlformats.org/officeDocument/2006/relationships/audio" Target="file:///tmp/home/.config/libreoffice/4/user/gallery/Drumroll.wav" TargetMode="External"/><Relationship Id="rId9" Type="http://schemas.microsoft.com/office/2007/relationships/media" Target="file:///tmp/home/.config/libreoffice/4/user/gallery/Drumroll.wav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file:///tmp/home/.config/libreoffice/4/user/gallery/Chime.wav" TargetMode="External"/><Relationship Id="rId3" Type="http://schemas.microsoft.com/office/2007/relationships/media" Target="file:///tmp/home/.config/libreoffice/4/user/gallery/Chime.wav" TargetMode="External"/><Relationship Id="rId4" Type="http://schemas.openxmlformats.org/officeDocument/2006/relationships/image" Target="../media/image2.png"/><Relationship Id="rId5" Type="http://schemas.openxmlformats.org/officeDocument/2006/relationships/audio" Target="file:///tmp/home/.config/libreoffice/4/user/gallery/SCREAM.WAV" TargetMode="External"/><Relationship Id="rId6" Type="http://schemas.microsoft.com/office/2007/relationships/media" Target="file:///tmp/home/.config/libreoffice/4/user/gallery/SCREAM.WAV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aunted%20house" descr=""/>
          <p:cNvPicPr/>
          <p:nvPr/>
        </p:nvPicPr>
        <p:blipFill>
          <a:blip r:embed="rId1"/>
          <a:stretch/>
        </p:blipFill>
        <p:spPr>
          <a:xfrm>
            <a:off x="-457200" y="0"/>
            <a:ext cx="9601200" cy="7151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133720" y="228600"/>
            <a:ext cx="4419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46"/>
                <a:gd name="adj2" fmla="val 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old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80880" y="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9056520" y="0"/>
            <a:ext cx="87480" cy="152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4419720" y="3276720"/>
            <a:ext cx="75960" cy="75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3436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 the old'old house was an old,old door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Door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3828960" cy="5943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52280" y="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9067680" y="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tairs" descr=""/>
          <p:cNvPicPr/>
          <p:nvPr/>
        </p:nvPicPr>
        <p:blipFill>
          <a:blip r:embed="rId1"/>
          <a:stretch/>
        </p:blipFill>
        <p:spPr>
          <a:xfrm>
            <a:off x="1525680" y="1143000"/>
            <a:ext cx="6092640" cy="5560920"/>
          </a:xfrm>
          <a:prstGeom prst="rect">
            <a:avLst/>
          </a:prstGeom>
          <a:ln w="0">
            <a:noFill/>
          </a:ln>
        </p:spPr>
      </p:pic>
      <p:pic>
        <p:nvPicPr>
          <p:cNvPr id="52" name="Footsteps" descr=""/>
          <p:cNvPicPr/>
          <p:nvPr/>
        </p:nvPicPr>
        <p:blipFill>
          <a:blip r:embed="rId2"/>
          <a:stretch/>
        </p:blipFill>
        <p:spPr>
          <a:xfrm>
            <a:off x="2514600" y="4618080"/>
            <a:ext cx="4759200" cy="2239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0" y="228600"/>
            <a:ext cx="8953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ehind the old,old door were some old,old step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ld%20chest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5105520" cy="3598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38120" y="228600"/>
            <a:ext cx="870588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t the top of the old,old steps was old,old ches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Bats" descr=""/>
          <p:cNvPicPr/>
          <p:nvPr/>
        </p:nvPicPr>
        <p:blipFill>
          <a:blip r:embed="rId3"/>
          <a:stretch/>
        </p:blipFill>
        <p:spPr>
          <a:xfrm>
            <a:off x="3962520" y="1905120"/>
            <a:ext cx="5715000" cy="4732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724280" y="327672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ats" descr=""/>
          <p:cNvPicPr/>
          <p:nvPr/>
        </p:nvPicPr>
        <p:blipFill>
          <a:blip r:embed="rId1"/>
          <a:stretch/>
        </p:blipFill>
        <p:spPr>
          <a:xfrm>
            <a:off x="5334120" y="674640"/>
            <a:ext cx="8126280" cy="6183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609480" y="152280"/>
            <a:ext cx="79534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 the old,old chest were some old,old hat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Box" descr=""/>
          <p:cNvPicPr/>
          <p:nvPr/>
        </p:nvPicPr>
        <p:blipFill>
          <a:blip r:embed="rId1"/>
          <a:stretch/>
        </p:blipFill>
        <p:spPr>
          <a:xfrm>
            <a:off x="380880" y="3200400"/>
            <a:ext cx="8126640" cy="541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343400" y="35812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609480" y="609480"/>
            <a:ext cx="754380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nder the old,old hats was an old,old box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143000" y="228600"/>
            <a:ext cx="662940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 the old,old box was an old,old ke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Key%201" descr=""/>
          <p:cNvPicPr/>
          <p:nvPr/>
        </p:nvPicPr>
        <p:blipFill>
          <a:blip r:embed="rId1"/>
          <a:stretch/>
        </p:blipFill>
        <p:spPr>
          <a:xfrm>
            <a:off x="223920" y="2128680"/>
            <a:ext cx="8696160" cy="2600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343400" y="350532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8600" y="380880"/>
            <a:ext cx="5353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UDDENLY APPEARED A ............. 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0" y="1143000"/>
            <a:ext cx="4381560" cy="15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HOST!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75960" cy="75960"/>
          </a:xfrm>
          <a:prstGeom prst="rect">
            <a:avLst/>
          </a:prstGeom>
          <a:ln w="0">
            <a:noFill/>
          </a:ln>
        </p:spPr>
      </p:pic>
      <p:pic>
        <p:nvPicPr>
          <p:cNvPr id="71" name="Ghost" descr=""/>
          <p:cNvPicPr/>
          <p:nvPr/>
        </p:nvPicPr>
        <p:blipFill>
          <a:blip r:embed="rId2"/>
          <a:stretch/>
        </p:blipFill>
        <p:spPr>
          <a:xfrm>
            <a:off x="2895480" y="2438280"/>
            <a:ext cx="345132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438280" y="1828800"/>
            <a:ext cx="3962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ATS  THE END FOLK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743200" y="3657600"/>
            <a:ext cx="35434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Y NATHAN BEASLE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09:58:34Z</dcterms:created>
  <dc:creator>Glenboi</dc:creator>
  <dc:description/>
  <dc:language>en-US</dc:language>
  <cp:lastModifiedBy>Glenboi</cp:lastModifiedBy>
  <dcterms:modified xsi:type="dcterms:W3CDTF">2009-10-14T10:56:55Z</dcterms:modified>
  <cp:revision>1</cp:revision>
  <dc:subject/>
  <dc:title> </dc:title>
</cp:coreProperties>
</file>